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B45-D218-4A0E-8125-E74A5C18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4E8-44D5-484D-BA80-7B4E8833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71D-5796-46D1-A67C-EAF1ECA7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4DD-B91A-4900-BC1B-2C6BDE2A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074-2D4C-4CF8-A33D-D52260D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B77-7514-4849-BABB-E179C5F6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AD4-7C67-4BCE-9941-391AAE1C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070-55F1-464A-9959-7DCEBEF4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CFB-3154-49E9-8C26-2893E585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736-0801-41C3-A82A-EF5E3AD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69F-B77E-45C6-942B-06BE872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C67-0A54-4B9C-BC7D-5A8574C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17EF-D3D9-4385-A062-644ECEA065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nprvp.fgov.be/" TargetMode="External"/><Relationship Id="rId2" Type="http://schemas.openxmlformats.org/officeDocument/2006/relationships/hyperlink" Target="http://www.mypension.be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688680"/>
            <a:ext cx="903132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101320"/>
            <a:ext cx="914400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仿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正常退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仿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提前退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仿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老年人收入保障金</a:t>
            </a:r>
            <a:r>
              <a:rPr b="0" lang="fr-BE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最低养老金</a:t>
            </a:r>
            <a:r>
              <a:rPr b="0" lang="fr-BE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仿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有关网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25560"/>
            <a:ext cx="8169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25560"/>
            <a:ext cx="8169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</a:t>
            </a:r>
            <a:r>
              <a:rPr b="0" lang="fr-FR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-</a:t>
            </a:r>
            <a:r>
              <a:rPr b="1" lang="ja-JP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正常退休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469520"/>
            <a:ext cx="10515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- 65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 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(2025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月以前退休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- 66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(2025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月以后至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030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月以前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- 67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030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</a:t>
            </a:r>
            <a:r>
              <a:rPr b="1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以后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对象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: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雇员退休金是颁发给任何人，不分国籍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只要在比利时纳税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, 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缴纳了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社会保障缴费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(les cotisations sociales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比利时的雇员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比利时的外国公司雇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类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官员退休金和员工退休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计算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根据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职业生涯和个人的家庭情况进行计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老年人收入保障金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最低养老金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GRAP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龄</a:t>
            </a:r>
            <a:r>
              <a:rPr b="0" lang="fr-BE" sz="1800" spc="-1" strike="noStrike">
                <a:solidFill>
                  <a:srgbClr val="000000"/>
                </a:solidFill>
                <a:latin typeface="华文仿宋"/>
                <a:ea typeface="华文仿宋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至少</a:t>
            </a:r>
            <a:r>
              <a:rPr b="0" lang="en-US" sz="1800" spc="-1" strike="noStrike">
                <a:solidFill>
                  <a:srgbClr val="000000"/>
                </a:solidFill>
                <a:latin typeface="华文仿宋"/>
                <a:ea typeface="华文仿宋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条件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低收入人群 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比利时人和符合条件的非比利时人</a:t>
            </a:r>
            <a:r>
              <a:rPr b="0" lang="fr-BE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</a:t>
            </a:r>
            <a:r>
              <a:rPr b="0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提前退休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屏幕快照 2017-02-24 下午4.32.16.png"/>
          <p:cNvPicPr/>
          <p:nvPr/>
        </p:nvPicPr>
        <p:blipFill>
          <a:blip r:embed="rId1"/>
          <a:stretch/>
        </p:blipFill>
        <p:spPr>
          <a:xfrm>
            <a:off x="4017960" y="1697040"/>
            <a:ext cx="73915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退休</a:t>
            </a:r>
            <a:r>
              <a:rPr b="0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老年人收入保障金 </a:t>
            </a:r>
            <a:r>
              <a:rPr b="0" lang="fr-BE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– </a:t>
            </a:r>
            <a:r>
              <a:rPr b="0" lang="en-GB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GRAP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必须实际永久居住在比利时</a:t>
            </a: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每年连续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天以上逗留在国外的</a:t>
            </a: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养老金暂停</a:t>
            </a:r>
            <a:r>
              <a:rPr b="0" lang="fr-BE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特殊情况提供</a:t>
            </a: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医疗机构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证明并征得</a:t>
            </a: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养老金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管理委员会的同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居住在国外</a:t>
            </a:r>
            <a:r>
              <a:rPr b="0" lang="fr-BE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月以上将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失去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Grapa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权利。回到比利时必须从新提交申请</a:t>
            </a:r>
            <a:r>
              <a:rPr b="0" lang="fr-BE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FPS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定期向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GRAPA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受益者发出通知</a:t>
            </a:r>
            <a:r>
              <a:rPr b="0" lang="fr-BE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接到通知必须在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天内亲到自到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FPS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地方当局报到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有关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onprvp.fgov.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mypension.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-376200" y="-19080"/>
            <a:ext cx="129445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25560"/>
            <a:ext cx="8169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25560"/>
            <a:ext cx="8169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25560"/>
            <a:ext cx="8169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09:15:05Z</dcterms:created>
  <dc:creator>Cao Yan</dc:creator>
  <dc:description/>
  <dc:language>en-US</dc:language>
  <cp:lastModifiedBy>Ming Shao</cp:lastModifiedBy>
  <dcterms:modified xsi:type="dcterms:W3CDTF">2017-03-12T07:49:58Z</dcterms:modified>
  <cp:revision>21</cp:revision>
  <dc:subject/>
  <dc:title>退休</dc:title>
</cp:coreProperties>
</file>